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F2A-E46F-422A-9AD0-2013FBA9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9AF-AA31-4F39-AA8B-8699095C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ADA-4D20-4A11-B228-657F2C0B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88F-BBD2-46DC-B7E9-F7B4833D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0E0-7469-4E4D-9CE1-C304B41B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8A0-DDC7-4A19-BA15-7AEDA20D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84E-A63A-405A-BC9F-05545277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70B-29C6-4EEB-B138-C9A15212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140-1BCB-4A8C-9F0E-FF7AA6F5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701-C2A1-4994-83AD-A0F54454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1E0-F8E3-4FCB-80E6-7A6EEA0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9AD-D7C8-40DB-A751-46A7DD83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5C2E-1528-497E-8E01-DEB89552D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0 Sprevádzaj ná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revádzaj nás, večný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ím požehna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každý verne stá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vätom povola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y tvojej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vždy hojne dá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tvoj príchod v rad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d tvoj 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áv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ejto živej nádej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chovaj nás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sme všetci nájd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lužbe lásky čiste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mnohí pozna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ásnej pravdy pram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milosti raz dosta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. Ame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48:04Z</dcterms:modified>
  <cp:revision>23</cp:revision>
  <dc:subject/>
  <dc:title>Je veľký náš Pán, on slávy je Kráľ Nech do všetkých strán  spev vrúcnych znie chvál.</dc:title>
</cp:coreProperties>
</file>